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7"/>
          <p:cNvSpPr/>
          <p:nvPr/>
        </p:nvSpPr>
        <p:spPr>
          <a:xfrm>
            <a:off x="1905120" y="56386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Перемещение по горизонта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WordArt 2"/>
          <p:cNvSpPr txBox="1"/>
          <p:nvPr/>
        </p:nvSpPr>
        <p:spPr>
          <a:xfrm>
            <a:off x="2050920" y="1268280"/>
            <a:ext cx="525780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еремещение фигур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на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ординатной плоскост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561440" cy="5905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2009880" cy="1114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3"/>
          <a:stretch/>
        </p:blipFill>
        <p:spPr>
          <a:xfrm>
            <a:off x="5148360" y="1893960"/>
            <a:ext cx="2085840" cy="124776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6">
            <a:hlinkClick r:id="" action="ppaction://hlinkshowjump?jump=nextslide"/>
          </p:cNvPr>
          <p:cNvSpPr/>
          <p:nvPr/>
        </p:nvSpPr>
        <p:spPr>
          <a:xfrm>
            <a:off x="6877080" y="580536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25" h="21600">
                <a:moveTo>
                  <a:pt x="27506" y="3794"/>
                </a:moveTo>
                <a:lnTo>
                  <a:pt x="41519" y="10800"/>
                </a:lnTo>
                <a:lnTo>
                  <a:pt x="27506" y="17806"/>
                </a:lnTo>
                <a:close/>
              </a:path>
            </a:pathLst>
          </a:cu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708 0.02176 L -0.43541 0.02176 E">
                                      <p:cBhvr>
                                        <p:cTn id="1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23 0.02986 L -0.43489 0.02986 E">
                                      <p:cBhvr>
                                        <p:cTn id="18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12"/>
          <p:cNvPicPr/>
          <p:nvPr/>
        </p:nvPicPr>
        <p:blipFill>
          <a:blip r:embed="rId1"/>
          <a:srcRect l="0" t="0" r="0" b="34404"/>
          <a:stretch/>
        </p:blipFill>
        <p:spPr>
          <a:xfrm>
            <a:off x="457200" y="2362320"/>
            <a:ext cx="8229600" cy="3668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62120" y="60948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рисунке изображен игрушечный состав, состоящий из локомотива и трех вагонов. Первый и третий вагон совершенно одинаков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26"/>
          <p:cNvGrpSpPr/>
          <p:nvPr/>
        </p:nvGrpSpPr>
        <p:grpSpPr>
          <a:xfrm>
            <a:off x="457200" y="3728880"/>
            <a:ext cx="8253360" cy="1528920"/>
            <a:chOff x="457200" y="3728880"/>
            <a:chExt cx="8253360" cy="1528920"/>
          </a:xfrm>
        </p:grpSpPr>
        <p:sp>
          <p:nvSpPr>
            <p:cNvPr id="66" name="Freeform 7"/>
            <p:cNvSpPr/>
            <p:nvPr/>
          </p:nvSpPr>
          <p:spPr>
            <a:xfrm>
              <a:off x="457200" y="4267080"/>
              <a:ext cx="2214720" cy="552600"/>
            </a:xfrm>
            <a:custGeom>
              <a:avLst/>
              <a:gdLst>
                <a:gd name="textAreaLeft" fmla="*/ 0 w 2214720"/>
                <a:gd name="textAreaRight" fmla="*/ 2215080 w 221472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1395" h="348">
                  <a:moveTo>
                    <a:pt x="1392" y="348"/>
                  </a:moveTo>
                  <a:lnTo>
                    <a:pt x="1395" y="3"/>
                  </a:lnTo>
                  <a:lnTo>
                    <a:pt x="3" y="0"/>
                  </a:lnTo>
                  <a:lnTo>
                    <a:pt x="0" y="345"/>
                  </a:lnTo>
                  <a:lnTo>
                    <a:pt x="1392" y="348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8"/>
            <p:cNvSpPr/>
            <p:nvPr/>
          </p:nvSpPr>
          <p:spPr>
            <a:xfrm>
              <a:off x="4691160" y="4272120"/>
              <a:ext cx="2200320" cy="561960"/>
            </a:xfrm>
            <a:custGeom>
              <a:avLst/>
              <a:gdLst>
                <a:gd name="textAreaLeft" fmla="*/ 0 w 2200320"/>
                <a:gd name="textAreaRight" fmla="*/ 2200680 w 220032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1386" h="354">
                  <a:moveTo>
                    <a:pt x="1386" y="354"/>
                  </a:moveTo>
                  <a:lnTo>
                    <a:pt x="1386" y="6"/>
                  </a:lnTo>
                  <a:lnTo>
                    <a:pt x="0" y="0"/>
                  </a:lnTo>
                  <a:lnTo>
                    <a:pt x="3" y="342"/>
                  </a:lnTo>
                  <a:lnTo>
                    <a:pt x="1386" y="354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9"/>
            <p:cNvSpPr/>
            <p:nvPr/>
          </p:nvSpPr>
          <p:spPr>
            <a:xfrm>
              <a:off x="2881440" y="3728880"/>
              <a:ext cx="1400040" cy="1105200"/>
            </a:xfrm>
            <a:custGeom>
              <a:avLst/>
              <a:gdLst>
                <a:gd name="textAreaLeft" fmla="*/ 0 w 1400040"/>
                <a:gd name="textAreaRight" fmla="*/ 1400400 w 1400040"/>
                <a:gd name="textAreaTop" fmla="*/ 0 h 1105200"/>
                <a:gd name="textAreaBottom" fmla="*/ 1105560 h 1105200"/>
              </a:gdLst>
              <a:ahLst/>
              <a:rect l="textAreaLeft" t="textAreaTop" r="textAreaRight" b="textAreaBottom"/>
              <a:pathLst>
                <a:path w="882" h="696">
                  <a:moveTo>
                    <a:pt x="9" y="690"/>
                  </a:moveTo>
                  <a:lnTo>
                    <a:pt x="0" y="174"/>
                  </a:lnTo>
                  <a:lnTo>
                    <a:pt x="141" y="3"/>
                  </a:lnTo>
                  <a:lnTo>
                    <a:pt x="753" y="0"/>
                  </a:lnTo>
                  <a:lnTo>
                    <a:pt x="882" y="177"/>
                  </a:lnTo>
                  <a:lnTo>
                    <a:pt x="882" y="696"/>
                  </a:lnTo>
                  <a:lnTo>
                    <a:pt x="9" y="69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0"/>
            <p:cNvSpPr/>
            <p:nvPr/>
          </p:nvSpPr>
          <p:spPr>
            <a:xfrm>
              <a:off x="3733920" y="3962520"/>
              <a:ext cx="228600" cy="6094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1"/>
            <p:cNvSpPr/>
            <p:nvPr/>
          </p:nvSpPr>
          <p:spPr>
            <a:xfrm>
              <a:off x="3200400" y="3962520"/>
              <a:ext cx="228600" cy="6094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7086600" y="3733920"/>
              <a:ext cx="1623960" cy="1100160"/>
            </a:xfrm>
            <a:custGeom>
              <a:avLst/>
              <a:gdLst>
                <a:gd name="textAreaLeft" fmla="*/ 0 w 1623960"/>
                <a:gd name="textAreaRight" fmla="*/ 1624320 w 1623960"/>
                <a:gd name="textAreaTop" fmla="*/ 0 h 1100160"/>
                <a:gd name="textAreaBottom" fmla="*/ 1100520 h 1100160"/>
              </a:gdLst>
              <a:ahLst/>
              <a:rect l="textAreaLeft" t="textAreaTop" r="textAreaRight" b="textAreaBottom"/>
              <a:pathLst>
                <a:path w="1023" h="693">
                  <a:moveTo>
                    <a:pt x="6" y="684"/>
                  </a:moveTo>
                  <a:lnTo>
                    <a:pt x="0" y="0"/>
                  </a:lnTo>
                  <a:lnTo>
                    <a:pt x="636" y="3"/>
                  </a:lnTo>
                  <a:lnTo>
                    <a:pt x="648" y="411"/>
                  </a:lnTo>
                  <a:lnTo>
                    <a:pt x="1023" y="417"/>
                  </a:lnTo>
                  <a:lnTo>
                    <a:pt x="1014" y="693"/>
                  </a:lnTo>
                  <a:lnTo>
                    <a:pt x="6" y="68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7315200" y="3886200"/>
              <a:ext cx="581040" cy="60948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366" h="384">
                  <a:moveTo>
                    <a:pt x="0" y="0"/>
                  </a:moveTo>
                  <a:lnTo>
                    <a:pt x="240" y="0"/>
                  </a:lnTo>
                  <a:lnTo>
                    <a:pt x="354" y="84"/>
                  </a:lnTo>
                  <a:lnTo>
                    <a:pt x="366" y="378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15"/>
            <p:cNvSpPr/>
            <p:nvPr/>
          </p:nvSpPr>
          <p:spPr>
            <a:xfrm>
              <a:off x="762120" y="4800600"/>
              <a:ext cx="533160" cy="457200"/>
            </a:xfrm>
            <a:prstGeom prst="ellipse">
              <a:avLst/>
            </a:prstGeom>
            <a:solidFill>
              <a:srgbClr val="33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16"/>
            <p:cNvSpPr/>
            <p:nvPr/>
          </p:nvSpPr>
          <p:spPr>
            <a:xfrm>
              <a:off x="7162920" y="4800600"/>
              <a:ext cx="533160" cy="457200"/>
            </a:xfrm>
            <a:prstGeom prst="ellipse">
              <a:avLst/>
            </a:prstGeom>
            <a:solidFill>
              <a:srgbClr val="33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Oval 17"/>
            <p:cNvSpPr/>
            <p:nvPr/>
          </p:nvSpPr>
          <p:spPr>
            <a:xfrm>
              <a:off x="6019920" y="4800600"/>
              <a:ext cx="533160" cy="457200"/>
            </a:xfrm>
            <a:prstGeom prst="ellipse">
              <a:avLst/>
            </a:prstGeom>
            <a:solidFill>
              <a:srgbClr val="33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18"/>
            <p:cNvSpPr/>
            <p:nvPr/>
          </p:nvSpPr>
          <p:spPr>
            <a:xfrm>
              <a:off x="5105520" y="4800600"/>
              <a:ext cx="533160" cy="457200"/>
            </a:xfrm>
            <a:prstGeom prst="ellipse">
              <a:avLst/>
            </a:prstGeom>
            <a:solidFill>
              <a:srgbClr val="33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19"/>
            <p:cNvSpPr/>
            <p:nvPr/>
          </p:nvSpPr>
          <p:spPr>
            <a:xfrm>
              <a:off x="3733920" y="4800600"/>
              <a:ext cx="533160" cy="457200"/>
            </a:xfrm>
            <a:prstGeom prst="ellipse">
              <a:avLst/>
            </a:prstGeom>
            <a:solidFill>
              <a:srgbClr val="33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20"/>
            <p:cNvSpPr/>
            <p:nvPr/>
          </p:nvSpPr>
          <p:spPr>
            <a:xfrm>
              <a:off x="2895480" y="4800600"/>
              <a:ext cx="533520" cy="457200"/>
            </a:xfrm>
            <a:prstGeom prst="ellipse">
              <a:avLst/>
            </a:prstGeom>
            <a:solidFill>
              <a:srgbClr val="33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21"/>
            <p:cNvSpPr/>
            <p:nvPr/>
          </p:nvSpPr>
          <p:spPr>
            <a:xfrm>
              <a:off x="1676520" y="4800600"/>
              <a:ext cx="533160" cy="457200"/>
            </a:xfrm>
            <a:prstGeom prst="ellipse">
              <a:avLst/>
            </a:prstGeom>
            <a:solidFill>
              <a:srgbClr val="33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Oval 22"/>
            <p:cNvSpPr/>
            <p:nvPr/>
          </p:nvSpPr>
          <p:spPr>
            <a:xfrm>
              <a:off x="8077320" y="4800600"/>
              <a:ext cx="533160" cy="457200"/>
            </a:xfrm>
            <a:prstGeom prst="ellipse">
              <a:avLst/>
            </a:prstGeom>
            <a:solidFill>
              <a:srgbClr val="33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2666880" y="4572000"/>
              <a:ext cx="2286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24"/>
            <p:cNvSpPr/>
            <p:nvPr/>
          </p:nvSpPr>
          <p:spPr>
            <a:xfrm>
              <a:off x="4267080" y="4572000"/>
              <a:ext cx="419400" cy="144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64" h="1">
                  <a:moveTo>
                    <a:pt x="0" y="0"/>
                  </a:moveTo>
                  <a:lnTo>
                    <a:pt x="264" y="0"/>
                  </a:ln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25"/>
            <p:cNvSpPr/>
            <p:nvPr/>
          </p:nvSpPr>
          <p:spPr>
            <a:xfrm>
              <a:off x="6858000" y="4572000"/>
              <a:ext cx="2286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AutoShape 27">
            <a:hlinkClick r:id="" action="ppaction://hlinkshowjump?jump=nextslide"/>
          </p:cNvPr>
          <p:cNvSpPr/>
          <p:nvPr/>
        </p:nvSpPr>
        <p:spPr>
          <a:xfrm>
            <a:off x="7238880" y="6019920"/>
            <a:ext cx="1152720" cy="360360"/>
          </a:xfrm>
          <a:custGeom>
            <a:avLst/>
            <a:gdLst>
              <a:gd name="textAreaLeft" fmla="*/ 23040 w 1152720"/>
              <a:gd name="textAreaRight" fmla="*/ 1129680 w 1152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47" h="21600">
                <a:moveTo>
                  <a:pt x="0" y="0"/>
                </a:moveTo>
                <a:lnTo>
                  <a:pt x="69047" y="0"/>
                </a:lnTo>
                <a:lnTo>
                  <a:pt x="69047" y="21600"/>
                </a:lnTo>
                <a:lnTo>
                  <a:pt x="0" y="21600"/>
                </a:lnTo>
                <a:close/>
              </a:path>
              <a:path fill="lightenLess" w="69047" h="21600">
                <a:moveTo>
                  <a:pt x="0" y="0"/>
                </a:moveTo>
                <a:lnTo>
                  <a:pt x="69047" y="0"/>
                </a:lnTo>
                <a:lnTo>
                  <a:pt x="67647" y="1400"/>
                </a:lnTo>
                <a:lnTo>
                  <a:pt x="1400" y="1400"/>
                </a:lnTo>
                <a:close/>
              </a:path>
              <a:path fill="darken" w="69047" h="21600">
                <a:moveTo>
                  <a:pt x="69047" y="0"/>
                </a:moveTo>
                <a:lnTo>
                  <a:pt x="69047" y="21600"/>
                </a:lnTo>
                <a:lnTo>
                  <a:pt x="67647" y="20200"/>
                </a:lnTo>
                <a:lnTo>
                  <a:pt x="67647" y="1400"/>
                </a:lnTo>
                <a:close/>
              </a:path>
              <a:path fill="darkenLess" w="69047" h="21600">
                <a:moveTo>
                  <a:pt x="690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47" y="20200"/>
                </a:lnTo>
                <a:close/>
              </a:path>
              <a:path fill="lighten" w="690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47" h="21600">
                <a:moveTo>
                  <a:pt x="27517" y="3794"/>
                </a:moveTo>
                <a:lnTo>
                  <a:pt x="41530" y="10800"/>
                </a:lnTo>
                <a:lnTo>
                  <a:pt x="27517" y="17806"/>
                </a:lnTo>
                <a:close/>
              </a:path>
            </a:pathLst>
          </a:cu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95122 0.01158 L 4.72222E-006 -2.59259E-006 E">
                                      <p:cBhvr>
                                        <p:cTn id="43" dur="5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5" descr="12"/>
          <p:cNvPicPr/>
          <p:nvPr/>
        </p:nvPicPr>
        <p:blipFill>
          <a:blip r:embed="rId1"/>
          <a:srcRect l="0" t="0" r="0" b="34404"/>
          <a:stretch/>
        </p:blipFill>
        <p:spPr>
          <a:xfrm>
            <a:off x="457200" y="2362320"/>
            <a:ext cx="8229600" cy="3668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838080" y="8380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переместить изображение третьего вагона строго по горизонтали вправо на 22 единицы, то оно совпадет с изображением первого ваго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838080" y="1676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переместить изображение первого вагона строго по горизонтали влево на 22 единицы, то оно совпадет с изображением третьего ваго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14">
            <a:hlinkClick r:id="" action="ppaction://hlinkshowjump?jump=nextslide"/>
          </p:cNvPr>
          <p:cNvSpPr/>
          <p:nvPr/>
        </p:nvSpPr>
        <p:spPr>
          <a:xfrm>
            <a:off x="7543800" y="6095880"/>
            <a:ext cx="990720" cy="304920"/>
          </a:xfrm>
          <a:custGeom>
            <a:avLst/>
            <a:gdLst>
              <a:gd name="textAreaLeft" fmla="*/ 19440 w 990720"/>
              <a:gd name="textAreaRight" fmla="*/ 971280 w 9907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70124" h="21600">
                <a:moveTo>
                  <a:pt x="0" y="0"/>
                </a:moveTo>
                <a:lnTo>
                  <a:pt x="70124" y="0"/>
                </a:lnTo>
                <a:lnTo>
                  <a:pt x="70124" y="21600"/>
                </a:lnTo>
                <a:lnTo>
                  <a:pt x="0" y="21600"/>
                </a:lnTo>
                <a:close/>
              </a:path>
              <a:path fill="lightenLess" w="70124" h="21600">
                <a:moveTo>
                  <a:pt x="0" y="0"/>
                </a:moveTo>
                <a:lnTo>
                  <a:pt x="70124" y="0"/>
                </a:lnTo>
                <a:lnTo>
                  <a:pt x="68724" y="1400"/>
                </a:lnTo>
                <a:lnTo>
                  <a:pt x="1400" y="1400"/>
                </a:lnTo>
                <a:close/>
              </a:path>
              <a:path fill="darken" w="70124" h="21600">
                <a:moveTo>
                  <a:pt x="70124" y="0"/>
                </a:moveTo>
                <a:lnTo>
                  <a:pt x="70124" y="21600"/>
                </a:lnTo>
                <a:lnTo>
                  <a:pt x="68724" y="20200"/>
                </a:lnTo>
                <a:lnTo>
                  <a:pt x="68724" y="1400"/>
                </a:lnTo>
                <a:close/>
              </a:path>
              <a:path fill="darkenLess" w="70124" h="21600">
                <a:moveTo>
                  <a:pt x="70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24" y="20200"/>
                </a:lnTo>
                <a:close/>
              </a:path>
              <a:path fill="lighten" w="70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124" h="21600">
                <a:moveTo>
                  <a:pt x="28055" y="3794"/>
                </a:moveTo>
                <a:lnTo>
                  <a:pt x="42068" y="10800"/>
                </a:lnTo>
                <a:lnTo>
                  <a:pt x="28055" y="17806"/>
                </a:lnTo>
                <a:close/>
              </a:path>
            </a:pathLst>
          </a:cu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17"/>
          <p:cNvSpPr/>
          <p:nvPr/>
        </p:nvSpPr>
        <p:spPr>
          <a:xfrm>
            <a:off x="457200" y="4272120"/>
            <a:ext cx="2214720" cy="552240"/>
          </a:xfrm>
          <a:custGeom>
            <a:avLst/>
            <a:gdLst>
              <a:gd name="textAreaLeft" fmla="*/ 0 w 2214720"/>
              <a:gd name="textAreaRight" fmla="*/ 2215080 w 2214720"/>
              <a:gd name="textAreaTop" fmla="*/ 0 h 552240"/>
              <a:gd name="textAreaBottom" fmla="*/ 552240 h 552240"/>
            </a:gdLst>
            <a:ahLst/>
            <a:rect l="textAreaLeft" t="textAreaTop" r="textAreaRight" b="textAreaBottom"/>
            <a:pathLst>
              <a:path w="1395" h="348">
                <a:moveTo>
                  <a:pt x="1392" y="348"/>
                </a:moveTo>
                <a:lnTo>
                  <a:pt x="1395" y="3"/>
                </a:lnTo>
                <a:lnTo>
                  <a:pt x="3" y="0"/>
                </a:lnTo>
                <a:lnTo>
                  <a:pt x="0" y="345"/>
                </a:lnTo>
                <a:lnTo>
                  <a:pt x="1392" y="348"/>
                </a:lnTo>
                <a:close/>
              </a:path>
            </a:pathLst>
          </a:cu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reeform 18"/>
          <p:cNvSpPr/>
          <p:nvPr/>
        </p:nvSpPr>
        <p:spPr>
          <a:xfrm>
            <a:off x="4691160" y="4276800"/>
            <a:ext cx="2200320" cy="56196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1386" h="354">
                <a:moveTo>
                  <a:pt x="1386" y="354"/>
                </a:moveTo>
                <a:lnTo>
                  <a:pt x="1386" y="6"/>
                </a:lnTo>
                <a:lnTo>
                  <a:pt x="0" y="0"/>
                </a:lnTo>
                <a:lnTo>
                  <a:pt x="3" y="342"/>
                </a:lnTo>
                <a:lnTo>
                  <a:pt x="1386" y="354"/>
                </a:lnTo>
                <a:close/>
              </a:path>
            </a:pathLst>
          </a:cu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19"/>
          <p:cNvSpPr/>
          <p:nvPr/>
        </p:nvSpPr>
        <p:spPr>
          <a:xfrm>
            <a:off x="2881440" y="3733920"/>
            <a:ext cx="1400040" cy="1104840"/>
          </a:xfrm>
          <a:custGeom>
            <a:avLst/>
            <a:gdLst>
              <a:gd name="textAreaLeft" fmla="*/ 0 w 1400040"/>
              <a:gd name="textAreaRight" fmla="*/ 1400400 w 1400040"/>
              <a:gd name="textAreaTop" fmla="*/ 0 h 1104840"/>
              <a:gd name="textAreaBottom" fmla="*/ 1104840 h 1104840"/>
            </a:gdLst>
            <a:ahLst/>
            <a:rect l="textAreaLeft" t="textAreaTop" r="textAreaRight" b="textAreaBottom"/>
            <a:pathLst>
              <a:path w="882" h="696">
                <a:moveTo>
                  <a:pt x="9" y="690"/>
                </a:moveTo>
                <a:lnTo>
                  <a:pt x="0" y="174"/>
                </a:lnTo>
                <a:lnTo>
                  <a:pt x="141" y="3"/>
                </a:lnTo>
                <a:lnTo>
                  <a:pt x="753" y="0"/>
                </a:lnTo>
                <a:lnTo>
                  <a:pt x="882" y="177"/>
                </a:lnTo>
                <a:lnTo>
                  <a:pt x="882" y="696"/>
                </a:lnTo>
                <a:lnTo>
                  <a:pt x="9" y="69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20"/>
          <p:cNvSpPr/>
          <p:nvPr/>
        </p:nvSpPr>
        <p:spPr>
          <a:xfrm>
            <a:off x="3733920" y="3967200"/>
            <a:ext cx="228600" cy="609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1"/>
          <p:cNvSpPr/>
          <p:nvPr/>
        </p:nvSpPr>
        <p:spPr>
          <a:xfrm>
            <a:off x="3200400" y="3967200"/>
            <a:ext cx="228600" cy="609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eeform 22"/>
          <p:cNvSpPr/>
          <p:nvPr/>
        </p:nvSpPr>
        <p:spPr>
          <a:xfrm>
            <a:off x="7086600" y="3738600"/>
            <a:ext cx="1623960" cy="1100160"/>
          </a:xfrm>
          <a:custGeom>
            <a:avLst/>
            <a:gdLst>
              <a:gd name="textAreaLeft" fmla="*/ 0 w 1623960"/>
              <a:gd name="textAreaRight" fmla="*/ 1624320 w 1623960"/>
              <a:gd name="textAreaTop" fmla="*/ 0 h 1100160"/>
              <a:gd name="textAreaBottom" fmla="*/ 1100520 h 1100160"/>
            </a:gdLst>
            <a:ahLst/>
            <a:rect l="textAreaLeft" t="textAreaTop" r="textAreaRight" b="textAreaBottom"/>
            <a:pathLst>
              <a:path w="1023" h="693">
                <a:moveTo>
                  <a:pt x="6" y="684"/>
                </a:moveTo>
                <a:lnTo>
                  <a:pt x="0" y="0"/>
                </a:lnTo>
                <a:lnTo>
                  <a:pt x="636" y="3"/>
                </a:lnTo>
                <a:lnTo>
                  <a:pt x="648" y="411"/>
                </a:lnTo>
                <a:lnTo>
                  <a:pt x="1023" y="417"/>
                </a:lnTo>
                <a:lnTo>
                  <a:pt x="1014" y="693"/>
                </a:lnTo>
                <a:lnTo>
                  <a:pt x="6" y="68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23"/>
          <p:cNvSpPr/>
          <p:nvPr/>
        </p:nvSpPr>
        <p:spPr>
          <a:xfrm>
            <a:off x="7315200" y="3890880"/>
            <a:ext cx="581040" cy="609840"/>
          </a:xfrm>
          <a:custGeom>
            <a:avLst/>
            <a:gdLst>
              <a:gd name="textAreaLeft" fmla="*/ 0 w 581040"/>
              <a:gd name="textAreaRight" fmla="*/ 581400 w 58104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366" h="384">
                <a:moveTo>
                  <a:pt x="0" y="0"/>
                </a:moveTo>
                <a:lnTo>
                  <a:pt x="240" y="0"/>
                </a:lnTo>
                <a:lnTo>
                  <a:pt x="354" y="84"/>
                </a:lnTo>
                <a:lnTo>
                  <a:pt x="366" y="378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24"/>
          <p:cNvSpPr/>
          <p:nvPr/>
        </p:nvSpPr>
        <p:spPr>
          <a:xfrm>
            <a:off x="762120" y="4805280"/>
            <a:ext cx="533160" cy="457200"/>
          </a:xfrm>
          <a:prstGeom prst="ellipse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25"/>
          <p:cNvSpPr/>
          <p:nvPr/>
        </p:nvSpPr>
        <p:spPr>
          <a:xfrm>
            <a:off x="7162920" y="4805280"/>
            <a:ext cx="533160" cy="457200"/>
          </a:xfrm>
          <a:prstGeom prst="ellipse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26"/>
          <p:cNvSpPr/>
          <p:nvPr/>
        </p:nvSpPr>
        <p:spPr>
          <a:xfrm>
            <a:off x="6019920" y="4805280"/>
            <a:ext cx="533160" cy="457200"/>
          </a:xfrm>
          <a:prstGeom prst="ellipse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27"/>
          <p:cNvSpPr/>
          <p:nvPr/>
        </p:nvSpPr>
        <p:spPr>
          <a:xfrm>
            <a:off x="5105520" y="4805280"/>
            <a:ext cx="533160" cy="457200"/>
          </a:xfrm>
          <a:prstGeom prst="ellipse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28"/>
          <p:cNvSpPr/>
          <p:nvPr/>
        </p:nvSpPr>
        <p:spPr>
          <a:xfrm>
            <a:off x="3733920" y="4805280"/>
            <a:ext cx="533160" cy="457200"/>
          </a:xfrm>
          <a:prstGeom prst="ellipse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9"/>
          <p:cNvSpPr/>
          <p:nvPr/>
        </p:nvSpPr>
        <p:spPr>
          <a:xfrm>
            <a:off x="2895480" y="4805280"/>
            <a:ext cx="533520" cy="457200"/>
          </a:xfrm>
          <a:prstGeom prst="ellipse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30"/>
          <p:cNvSpPr/>
          <p:nvPr/>
        </p:nvSpPr>
        <p:spPr>
          <a:xfrm>
            <a:off x="1676520" y="4805280"/>
            <a:ext cx="533160" cy="457200"/>
          </a:xfrm>
          <a:prstGeom prst="ellipse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1"/>
          <p:cNvSpPr/>
          <p:nvPr/>
        </p:nvSpPr>
        <p:spPr>
          <a:xfrm>
            <a:off x="8077320" y="4805280"/>
            <a:ext cx="533160" cy="457200"/>
          </a:xfrm>
          <a:prstGeom prst="ellipse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2"/>
          <p:cNvSpPr/>
          <p:nvPr/>
        </p:nvSpPr>
        <p:spPr>
          <a:xfrm>
            <a:off x="2666880" y="4576680"/>
            <a:ext cx="2286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reeform 33"/>
          <p:cNvSpPr/>
          <p:nvPr/>
        </p:nvSpPr>
        <p:spPr>
          <a:xfrm>
            <a:off x="4267080" y="4576680"/>
            <a:ext cx="419400" cy="1800"/>
          </a:xfrm>
          <a:custGeom>
            <a:avLst/>
            <a:gdLst>
              <a:gd name="textAreaLeft" fmla="*/ 0 w 419400"/>
              <a:gd name="textAreaRight" fmla="*/ 419760 w 4194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64" h="1">
                <a:moveTo>
                  <a:pt x="0" y="0"/>
                </a:moveTo>
                <a:lnTo>
                  <a:pt x="264" y="0"/>
                </a:ln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34"/>
          <p:cNvSpPr/>
          <p:nvPr/>
        </p:nvSpPr>
        <p:spPr>
          <a:xfrm>
            <a:off x="6858000" y="4576680"/>
            <a:ext cx="2286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44444E-006 L 0.46232 0.00348 E">
                                      <p:cBhvr>
                                        <p:cTn id="56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232 0.00348 L 0.00399 0.00348 E">
                                      <p:cBhvr>
                                        <p:cTn id="59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000"/>
                            </p:stCondLst>
                            <p:childTnLst>
                              <p:par>
                                <p:cTn id="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6.66667E-006 L -0.45833 6.66667E-006 E">
                                      <p:cBhvr>
                                        <p:cTn id="6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5833 0.00209 L -3.33333E-006 0.00209 E">
                                      <p:cBhvr>
                                        <p:cTn id="6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6"/>
          <p:cNvSpPr txBox="1"/>
          <p:nvPr/>
        </p:nvSpPr>
        <p:spPr>
          <a:xfrm>
            <a:off x="533520" y="380880"/>
            <a:ext cx="1447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33"/>
                </a:solidFill>
                <a:latin typeface="Arial"/>
              </a:rPr>
              <a:t>подума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33"/>
              </a:solidFill>
              <a:latin typeface="Arial"/>
              <a:ea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990720" y="990720"/>
            <a:ext cx="70102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взаимосвязаны координаты точек первого и последнего вагонов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изменятся координаты точек фигуры, если переместить эту фигуру на некоторое число единиц вправо по горизонтали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изменятся координаты точек фигуры, если переместить эту фигуру на некоторое число единиц влево по горизонтали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7553520" cy="297036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10"/>
          <p:cNvSpPr/>
          <p:nvPr/>
        </p:nvSpPr>
        <p:spPr>
          <a:xfrm rot="16200000">
            <a:off x="3962160" y="3886200"/>
            <a:ext cx="457200" cy="3352680"/>
          </a:xfrm>
          <a:custGeom>
            <a:avLst/>
            <a:gdLst>
              <a:gd name="textAreaLeft" fmla="*/ 292320 w 457200"/>
              <a:gd name="textAreaRight" fmla="*/ 457560 w 45720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3733920" y="5867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 еди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914400" y="762120"/>
            <a:ext cx="7315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11280" y="558720"/>
            <a:ext cx="792144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Times New Roman"/>
              </a:rPr>
              <a:t>Зная, как изменяются координаты точек при перемещении по координатной плоскости по горизонтали можно записывать координаты перемещенных фигур, не прибегая к их изображениям. Для этого необходимо знат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Times New Roman"/>
              </a:rPr>
              <a:t>Координаты исходной фигу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Times New Roman"/>
              </a:rPr>
              <a:t>Направление перемещения вправо или влево, при этом надо помнить, что если перемещение выполняется вправо, то абсцисса увеличивается, если влево – уменьшает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Times New Roman"/>
              </a:rPr>
              <a:t>Число единиц, на которое выполняется перемещение. Перемещение можно задавать положительными (вправо), отрицательными (влево) числ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Юрий</dc:creator>
  <dc:description/>
  <dc:language>en-US</dc:language>
  <cp:lastModifiedBy>Юрий</cp:lastModifiedBy>
  <dcterms:modified xsi:type="dcterms:W3CDTF">2013-02-14T08:03:43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